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BA2-DA4E-4A46-9E8C-19E02C32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79-26CF-4591-AA33-32F585E8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466-6BCC-4709-AE82-4009C5B2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8A5-FC09-46E1-A35B-638E166D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1F0-B53F-4E65-A596-21788187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50B-2E68-4240-A769-4FAB1348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8EB-E458-457D-88D8-7EFB42E0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F0D-FF3A-4969-A542-1EDFCCBF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2C2-1166-42FA-BAF8-B5E3FACD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C3E-0886-4989-A531-82804EE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5C6-7F33-45F2-9540-9DDDE69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4A5-F09E-4AF7-AFFF-DA33E7D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E709-D2C7-4502-A722-DBBE9B866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3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organized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urbed Per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ppropriate Emotions an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50292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 Abnorm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 Ov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55480" y="985680"/>
            <a:ext cx="8026560" cy="4889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of Developing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바닥글 개체 틀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78400" y="103320"/>
            <a:ext cx="2746080" cy="6221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228600"/>
            <a:ext cx="3505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phrenia in Identical Tw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34:02Z</dcterms:created>
  <dc:creator>bfw</dc:creator>
  <dc:description/>
  <dc:language>en-US</dc:language>
  <cp:lastModifiedBy>정환호</cp:lastModifiedBy>
  <dcterms:modified xsi:type="dcterms:W3CDTF">2009-01-04T08:42:35Z</dcterms:modified>
  <cp:revision>4</cp:revision>
  <dc:subject/>
  <dc:title>Module 47 Schizophrenia</dc:title>
</cp:coreProperties>
</file>